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F74F-B4F5-4879-AD33-37C325553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F937-1E8B-4C6D-B9C7-64D76E3E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48A8B7-2AC8-4A72-9D7A-6A88AB6F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FFBA33-1799-44D0-95A4-5B4B72AA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6FEE60-FE7A-41EA-8C56-4D34F459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F706EE-4A47-4AA1-B645-E138F47F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CE1D80-267E-4AB0-AAB3-1660E002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116542-F8F9-4A62-B1F3-A47930ED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871037-56EB-4B0A-9300-8A0C694B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1F26C5-2D36-4E1A-AFF8-B3B545256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BC25C8-B10C-4516-AC68-5284F409E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DB4CF0-CC07-4EB5-9306-9DD5B1FF6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5E71-335C-48F9-B0F6-C1D4102B9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9D6469-A44C-43F3-A391-9E11D886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646C7E-9DA7-4867-AFFF-FD5BCB36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E9FC1C-7825-4F88-B535-91277C2E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A5B4E4-D9DC-4B74-8531-2A36CD16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41380E-D30E-4B5C-8758-792711F3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15B811-4B7E-4066-B744-D993DB07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554C51-8015-4E5A-A49E-7FAE1C2B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4D98CD-DC72-4EE3-83B7-612E57E0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2F4B79-6F57-47B1-96B3-BC806296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BC931E-043A-4F0D-8CA3-2F927646C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038B-8631-4F80-9D61-E31A0B0E4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DA2631-21B3-4A8B-8339-A787BD39C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B135DB4-0270-4F13-BCA4-681AF4140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73A8B87-9421-457B-93B2-0B327D17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9F1B355-4F91-467B-97A0-01BC6DA3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354D178-EF39-42B5-B67E-2DC0133F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BDD14A3-DF85-4EF3-AC7D-F4A4AEB6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3A4E995-DD15-4467-AD5F-32736F35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B16D7A-BCDB-44CA-B6E4-AF70A433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0A214F8-D752-489E-B6E2-4C8E0647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45ACD4B-9507-4364-B7A9-C6AC97AE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EA92-5FC5-4274-BE4C-E1A38F869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72C3279-CA75-45B2-B31B-3A6C287F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63D91DB-3A8F-4C34-9E04-E7C35F8E1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E67B8B-762A-40C1-BBAC-15730CD02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45B677-6448-4562-974A-64A662F42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A99674-91F9-44F9-B9C4-2F0F7823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6FF6A5-413F-438F-B696-7AA19AF3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9A0AD8-6D62-4FDC-B1AB-BA5F5611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8AB168-499F-4A2A-9BC4-99DD70E9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9029DC-49C2-47F0-98D6-AD0413F3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9E3DC3-D8F4-4B45-A637-069E40B3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039AE-A027-4DC3-A874-CF115C51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30A2A7-DA86-4E76-B526-B734ECF7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01ABD6-01CE-4FFC-B92F-96CF28DE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60C0CE-3AD0-4070-914C-F97A78E0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1C7DAC-7392-47B0-9F78-F87C4A27A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83FAAD-C91E-4ADF-9E34-42076AF5A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E474-E9D7-4891-B539-D7C79A9E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AC4FC-216E-4901-AC8C-75EB91FE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18F3-A07D-4577-9FD6-4962CB60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7E9C-2640-42E8-95E3-ED3F8C82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A312-0BCD-49C8-BC87-DEABB8A2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6EF7-B44E-4EE1-A516-8834818B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CB95-E49D-407C-A947-89A4A3EE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4C96-8AB0-496B-AAF8-B4E4D398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0256-7859-4FF3-9B0D-8BC29ADC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1659-36D8-4CDB-A606-52FD80AD9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96DEB-E30A-4134-9555-2BE30F6F6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BFE20-1BAE-4D96-93BE-1275769D1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67C9E-ACE1-4C5F-BD0D-F0858376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2F64F-9390-4D43-A0F5-327B7EB7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A24CC-96B4-4DC6-A196-10AE25E4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E3BA6-D463-447B-B290-0D154D50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73B2-C85E-4AA4-837C-657AF558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D7AD8-FD64-48D6-98BB-F40A6271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1F48B-60EF-4BA9-99DD-64CAE53B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4DBC6-5E57-454A-9B9D-5FD70297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3EC4D-2649-40C2-B4F9-20969755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BB0CE-AFA7-4AB9-9238-5ABD55F7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186B5-78D8-4698-BA96-7B3CE9FA5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8BE3B-0E6F-418A-B98B-F7962DB2E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055DD-885A-4897-B65E-707682058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EBDAD-6832-4F60-8787-023980A3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5A500-786A-4D05-BF5C-99395BB6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3C4F-BE33-4B2C-A996-27C28C58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81D74-A9DB-4E1B-B782-10C2E2DC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43F77-0017-4E28-8725-58AF9972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25A25-7288-49D2-BABD-88C37105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3D1E5-DFBB-4119-AE3D-9B0F8543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EC84B-15BD-4FFC-A749-A3DA5EFD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E6A36-9C0E-440D-965A-001237D2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ECB81-0BCA-414B-9358-D61D5C78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5DE6F-E6EE-4269-AE9B-055425A2F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F919A-86DA-4B2E-B073-AD58BA165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E5D55-FB9F-4BD8-8A7E-1B57FEB53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56EF-6945-458A-91E5-88D8E227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95259-E7F1-48A4-8D58-C18E0A76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AABF6-D97A-4B81-909B-F965E2B4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0DA1A-88D5-4DA0-B8DA-8121E29C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24A96-47F0-4F63-A942-18831ADB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992C3-F26A-4309-9674-EB37169C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BFA96-AE17-4F1E-BFFE-BF8E7EFD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C4F17-6CE6-4855-BC62-17A1383F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0C22D-FA78-4133-9A4B-F01B25D4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A274D-842B-41F5-8850-C7C0FD6F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57604-4E28-49EB-A2F0-62A94CD2C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86BD-6E3E-4F06-AAF1-6B14D6BA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E3308-FFE3-4F98-9D7A-D8321ADDD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76CF64-7FC4-417C-B5AE-274D3E2A7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E60E31-E550-479A-AF96-54B7C918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6DA48C-A22D-4907-BF19-517C3865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88F4F5-1349-4287-BC22-227A8552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FE77FA-00C8-40EF-8EB5-304086CC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3EA353-1E84-4C58-9989-385F64E8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7076A8-B862-4A16-9755-05CDB824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F977B6-1287-4C20-B302-28C23476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0E148E-A805-461C-991C-169F57EA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7CFF-781D-4E15-B79E-39382582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058E08-69C3-4959-B26C-49225DA5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409943-FDB7-46E6-849B-E999B87FE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879900-1E1E-400B-BFF0-A043DC0E2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392C4-A3D9-484D-B990-6D35EA975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26C1D-A275-4C15-A826-47A2776C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601D9-C669-4D66-BA81-BC0D21E1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56013-9CFF-4361-BE6E-D7532315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C759B-4430-43EE-AAB2-24C8DFAB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F4313-145F-402A-939A-E72A89AD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C77DA-B0B0-4B24-9BBB-7D8DF002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21B9-591E-4A9D-B28A-D9BDABBF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4B870-8FD6-41F6-8E3A-D41E7BA0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8541A-0568-4C0D-B491-CB29A768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58479-92EC-493F-A934-D9790D37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0E174-C69F-4263-8E5B-ED140378E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3A28C-DEC9-4288-8D46-E30BB205B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51299-E064-4C17-9469-FA0C23201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E6148-9225-44FD-8E37-92FEC7A5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B3704-A4F0-4EAD-933E-EBA764B4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99536-F332-43FC-87A0-D32D538C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B957C-5FB9-4A05-9FC9-937AF75F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6D9F-5E0C-45E4-B927-DEF4C46D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E45AF-189A-4C33-87E6-FEEBB28A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5474A-F64A-4C69-92CE-2C1FFD25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DCB86-0EC4-45D4-998D-2489AF81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DEC56-91D1-495D-A8C4-F428CFF1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B4424-3B6D-4E6E-850C-BE3DF5AB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278CC-90EF-420F-A762-691E04922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6F6C9-A0E8-4960-8890-AF0302864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277A4B-30EB-4A23-975B-4A848C2D8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07D0AF-F121-4DB5-B8D1-BF7D5D20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D837BA-6072-4828-A2AC-B0932A69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D690-3D79-41AB-8118-DE37B466C8C1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74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AE1E-56A9-49BB-BF15-8259D72A441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4C4A-2FA6-4DD9-AB6D-E2F8414629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1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1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81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819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59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60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865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 type="ftr" idx="3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 type="sldNum" idx="3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D577-4B88-4640-BA0A-B040E884EE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B5B6-5627-4B5C-A37E-53957BD3D8F5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50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FA68-5EC3-40DA-AD4F-23CF63F28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00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481D-624D-4C68-98C8-ED28BEC0B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AF24-B782-4720-9F3C-0ECEC8739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21CA-A63F-42CF-ABD1-132D0B168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529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33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546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558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563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7F2C-07C6-48B8-8DDB-C76773E17A1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607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611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624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635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636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641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5548-6A86-4CBF-8B4C-C47E6EEE46C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8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6826-2038-4613-9AB6-FFFC40230A7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9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304920" y="121932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f273e"/>
                </a:solidFill>
                <a:latin typeface="Verdana"/>
              </a:rPr>
              <a:t>Mi vacacion en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f273e"/>
                </a:solidFill>
                <a:latin typeface="Verdana"/>
              </a:rPr>
              <a:t> </a:t>
            </a:r>
            <a:r>
              <a:rPr b="0" lang="en-US" sz="4800" spc="-1" strike="noStrike">
                <a:solidFill>
                  <a:srgbClr val="af273e"/>
                </a:solidFill>
                <a:latin typeface="Verdana"/>
              </a:rPr>
              <a:t>Ponce, puerto rico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194520" y="4908600"/>
            <a:ext cx="21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Verdana"/>
              </a:rPr>
              <a:t>By:Tatiana Tinsley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909" name="" descr=""/>
          <p:cNvPicPr/>
          <p:nvPr/>
        </p:nvPicPr>
        <p:blipFill>
          <a:blip r:embed="rId1"/>
          <a:stretch/>
        </p:blipFill>
        <p:spPr>
          <a:xfrm>
            <a:off x="533520" y="3276720"/>
            <a:ext cx="3552840" cy="250488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2"/>
          <a:stretch/>
        </p:blipFill>
        <p:spPr>
          <a:xfrm>
            <a:off x="5943600" y="2590920"/>
            <a:ext cx="2738520" cy="21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Mi Hote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819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Hola mam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Hoy llego a mi hotel. Esta en Ponce, Puerto Rico. Esta muy bonita y grande. Tiene una domintorio grand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sos y abrazos 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t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3" name="" descr=""/>
          <p:cNvPicPr/>
          <p:nvPr/>
        </p:nvPicPr>
        <p:blipFill>
          <a:blip r:embed="rId1"/>
          <a:stretch/>
        </p:blipFill>
        <p:spPr>
          <a:xfrm>
            <a:off x="3352680" y="1295280"/>
            <a:ext cx="5639040" cy="2271960"/>
          </a:xfrm>
          <a:prstGeom prst="rect">
            <a:avLst/>
          </a:prstGeom>
          <a:ln w="0">
            <a:noFill/>
          </a:ln>
        </p:spPr>
      </p:pic>
      <p:pic>
        <p:nvPicPr>
          <p:cNvPr id="914" name="" descr=""/>
          <p:cNvPicPr/>
          <p:nvPr/>
        </p:nvPicPr>
        <p:blipFill>
          <a:blip r:embed="rId2"/>
          <a:stretch/>
        </p:blipFill>
        <p:spPr>
          <a:xfrm>
            <a:off x="5810400" y="4629240"/>
            <a:ext cx="3333600" cy="2228760"/>
          </a:xfrm>
          <a:prstGeom prst="rect">
            <a:avLst/>
          </a:prstGeom>
          <a:ln w="0">
            <a:noFill/>
          </a:ln>
        </p:spPr>
      </p:pic>
      <p:pic>
        <p:nvPicPr>
          <p:cNvPr id="915" name="" descr=""/>
          <p:cNvPicPr/>
          <p:nvPr/>
        </p:nvPicPr>
        <p:blipFill>
          <a:blip r:embed="rId3"/>
          <a:stretch/>
        </p:blipFill>
        <p:spPr>
          <a:xfrm>
            <a:off x="3276720" y="3657600"/>
            <a:ext cx="2514600" cy="16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/>
          </p:nvPr>
        </p:nvSpPr>
        <p:spPr>
          <a:xfrm>
            <a:off x="1980720" y="-152640"/>
            <a:ext cx="487692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Querido Laur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y buen tiempo. La agua es muy bonita y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aliente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oy yo fui bucar . yo neccesto una toalla playera. Yo mire mucho pescados. No mire una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iburón. Un fuerte abraz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a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7" name="" descr="snorkeling in puerto rico"/>
          <p:cNvPicPr/>
          <p:nvPr/>
        </p:nvPicPr>
        <p:blipFill>
          <a:blip r:embed="rId1"/>
          <a:stretch/>
        </p:blipFill>
        <p:spPr>
          <a:xfrm rot="850200">
            <a:off x="6934320" y="151920"/>
            <a:ext cx="2209680" cy="1478160"/>
          </a:xfrm>
          <a:prstGeom prst="rect">
            <a:avLst/>
          </a:prstGeom>
          <a:ln w="0">
            <a:noFill/>
          </a:ln>
        </p:spPr>
      </p:pic>
      <p:pic>
        <p:nvPicPr>
          <p:cNvPr id="918" name="" descr="Dive 1"/>
          <p:cNvPicPr/>
          <p:nvPr/>
        </p:nvPicPr>
        <p:blipFill>
          <a:blip r:embed="rId2"/>
          <a:stretch/>
        </p:blipFill>
        <p:spPr>
          <a:xfrm>
            <a:off x="152280" y="152280"/>
            <a:ext cx="1714680" cy="1162080"/>
          </a:xfrm>
          <a:prstGeom prst="rect">
            <a:avLst/>
          </a:prstGeom>
          <a:ln w="0">
            <a:noFill/>
          </a:ln>
        </p:spPr>
      </p:pic>
      <p:pic>
        <p:nvPicPr>
          <p:cNvPr id="919" name="" descr="snorkeling 1"/>
          <p:cNvPicPr/>
          <p:nvPr/>
        </p:nvPicPr>
        <p:blipFill>
          <a:blip r:embed="rId3"/>
          <a:stretch/>
        </p:blipFill>
        <p:spPr>
          <a:xfrm>
            <a:off x="7238880" y="5334120"/>
            <a:ext cx="1714680" cy="1352520"/>
          </a:xfrm>
          <a:prstGeom prst="rect">
            <a:avLst/>
          </a:prstGeom>
          <a:ln w="0">
            <a:noFill/>
          </a:ln>
        </p:spPr>
      </p:pic>
      <p:pic>
        <p:nvPicPr>
          <p:cNvPr id="920" name="" descr="aqua adventure Puerto Rico"/>
          <p:cNvPicPr/>
          <p:nvPr/>
        </p:nvPicPr>
        <p:blipFill>
          <a:blip r:embed="rId4"/>
          <a:stretch/>
        </p:blipFill>
        <p:spPr>
          <a:xfrm rot="1098600">
            <a:off x="151920" y="5181120"/>
            <a:ext cx="2590920" cy="1274760"/>
          </a:xfrm>
          <a:prstGeom prst="rect">
            <a:avLst/>
          </a:prstGeom>
          <a:ln w="0">
            <a:noFill/>
          </a:ln>
        </p:spPr>
      </p:pic>
      <p:pic>
        <p:nvPicPr>
          <p:cNvPr id="921" name="" descr="snorkeling in puerto rico"/>
          <p:cNvPicPr/>
          <p:nvPr/>
        </p:nvPicPr>
        <p:blipFill>
          <a:blip r:embed="rId5"/>
          <a:stretch/>
        </p:blipFill>
        <p:spPr>
          <a:xfrm>
            <a:off x="3962520" y="5181480"/>
            <a:ext cx="19238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44956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erida mama 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yer yo hable con un muchacho y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ás tarde nosotros fuimos la playa. Lo praticar el surf y yo nade. Entonces nosotros fuimos el esqui acuatico. Hoy nostoros fuimos tabla hawaiana y esquiar en el agua. Buen tiempo y el sol brilla . Yo necesto una el traje de bano y la toalla playera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ás tarde nosotros compramos ropa para la fiesta maña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Besos y abrazo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t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3" name="" descr=""/>
          <p:cNvPicPr/>
          <p:nvPr/>
        </p:nvPicPr>
        <p:blipFill>
          <a:blip r:embed="rId2"/>
          <a:stretch/>
        </p:blipFill>
        <p:spPr>
          <a:xfrm>
            <a:off x="4952880" y="1371600"/>
            <a:ext cx="3953160" cy="3162240"/>
          </a:xfrm>
          <a:prstGeom prst="rect">
            <a:avLst/>
          </a:prstGeom>
          <a:ln w="0">
            <a:noFill/>
          </a:ln>
        </p:spPr>
      </p:pic>
      <p:pic>
        <p:nvPicPr>
          <p:cNvPr id="924" name="" descr=""/>
          <p:cNvPicPr/>
          <p:nvPr/>
        </p:nvPicPr>
        <p:blipFill>
          <a:blip r:embed="rId3"/>
          <a:stretch/>
        </p:blipFill>
        <p:spPr>
          <a:xfrm>
            <a:off x="6172200" y="4724280"/>
            <a:ext cx="2695680" cy="1695600"/>
          </a:xfrm>
          <a:prstGeom prst="rect">
            <a:avLst/>
          </a:prstGeom>
          <a:ln w="0">
            <a:noFill/>
          </a:ln>
        </p:spPr>
      </p:pic>
      <p:sp>
        <p:nvSpPr>
          <p:cNvPr id="925" name=""/>
          <p:cNvSpPr/>
          <p:nvPr/>
        </p:nvSpPr>
        <p:spPr>
          <a:xfrm>
            <a:off x="1299600" y="4724280"/>
            <a:ext cx="13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/>
          </p:nvPr>
        </p:nvSpPr>
        <p:spPr>
          <a:xfrm>
            <a:off x="0" y="60948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Querida mama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oy buen tiempo. Yo relajé. Mire television mucho. Entonces, fui a la casa de mi amigo y nosotros nadamos en la piscina. Antes de nadar,  compramos y gastamos mucho dinero  Más tarde mi amigo y yo fuimos a la fiesta y nosotros bailamos mucho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Un fuerte abrazo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Tat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27" name="" descr=""/>
          <p:cNvPicPr/>
          <p:nvPr/>
        </p:nvPicPr>
        <p:blipFill>
          <a:blip r:embed="rId1"/>
          <a:stretch/>
        </p:blipFill>
        <p:spPr>
          <a:xfrm>
            <a:off x="4419720" y="457200"/>
            <a:ext cx="3952800" cy="2943360"/>
          </a:xfrm>
          <a:prstGeom prst="rect">
            <a:avLst/>
          </a:prstGeom>
          <a:ln w="0">
            <a:noFill/>
          </a:ln>
        </p:spPr>
      </p:pic>
      <p:pic>
        <p:nvPicPr>
          <p:cNvPr id="928" name="" descr=""/>
          <p:cNvPicPr/>
          <p:nvPr/>
        </p:nvPicPr>
        <p:blipFill>
          <a:blip r:embed="rId2"/>
          <a:stretch/>
        </p:blipFill>
        <p:spPr>
          <a:xfrm rot="1129200">
            <a:off x="5867280" y="2666880"/>
            <a:ext cx="2857680" cy="2076480"/>
          </a:xfrm>
          <a:prstGeom prst="rect">
            <a:avLst/>
          </a:prstGeom>
          <a:ln w="0">
            <a:noFill/>
          </a:ln>
        </p:spPr>
      </p:pic>
      <p:pic>
        <p:nvPicPr>
          <p:cNvPr id="929" name="" descr=""/>
          <p:cNvPicPr/>
          <p:nvPr/>
        </p:nvPicPr>
        <p:blipFill>
          <a:blip r:embed="rId3"/>
          <a:stretch/>
        </p:blipFill>
        <p:spPr>
          <a:xfrm>
            <a:off x="3581280" y="3809880"/>
            <a:ext cx="2514600" cy="2202120"/>
          </a:xfrm>
          <a:prstGeom prst="rect">
            <a:avLst/>
          </a:prstGeom>
          <a:ln w="0">
            <a:noFill/>
          </a:ln>
        </p:spPr>
      </p:pic>
      <p:pic>
        <p:nvPicPr>
          <p:cNvPr id="930" name="" descr=""/>
          <p:cNvPicPr/>
          <p:nvPr/>
        </p:nvPicPr>
        <p:blipFill>
          <a:blip r:embed="rId4"/>
          <a:stretch/>
        </p:blipFill>
        <p:spPr>
          <a:xfrm>
            <a:off x="6305400" y="4729320"/>
            <a:ext cx="2838600" cy="21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335268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Querido Laura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y fui la playa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otra vez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. Necesto una toalla de playa , grafas de sol, y crema protectora. Hace calor y hace sol. Mi amigo nadar y yo tomar el so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Cariñosos saludo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2" name="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33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-36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380520" y="0"/>
            <a:ext cx="3429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Querido Laura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Hoy llueve . Yo fui a jugar al tenis. En  la cancha de tenis cubierta. Necesito un raqueta, pelota y red. Yo jugué  singles.  Yo golpeé  el pelota. Yo gané. Más tarde jugué baloncesto con mi amigo Jaun.  Yo pasé el pelota a mi amigo y lo dribló y entonces lo marcó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Un fuerte abrazo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Ta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35" name="" descr=""/>
          <p:cNvPicPr/>
          <p:nvPr/>
        </p:nvPicPr>
        <p:blipFill>
          <a:blip r:embed="rId1"/>
          <a:stretch/>
        </p:blipFill>
        <p:spPr>
          <a:xfrm rot="1407600">
            <a:off x="5334120" y="609120"/>
            <a:ext cx="3371760" cy="2495520"/>
          </a:xfrm>
          <a:prstGeom prst="rect">
            <a:avLst/>
          </a:prstGeom>
          <a:ln w="0">
            <a:noFill/>
          </a:ln>
        </p:spPr>
      </p:pic>
      <p:pic>
        <p:nvPicPr>
          <p:cNvPr id="936" name="" descr=""/>
          <p:cNvPicPr/>
          <p:nvPr/>
        </p:nvPicPr>
        <p:blipFill>
          <a:blip r:embed="rId2"/>
          <a:stretch/>
        </p:blipFill>
        <p:spPr>
          <a:xfrm rot="20614200">
            <a:off x="4038480" y="2819160"/>
            <a:ext cx="2981520" cy="2342880"/>
          </a:xfrm>
          <a:prstGeom prst="rect">
            <a:avLst/>
          </a:prstGeom>
          <a:ln w="0">
            <a:noFill/>
          </a:ln>
        </p:spPr>
      </p:pic>
      <p:pic>
        <p:nvPicPr>
          <p:cNvPr id="937" name="" descr=""/>
          <p:cNvPicPr/>
          <p:nvPr/>
        </p:nvPicPr>
        <p:blipFill>
          <a:blip r:embed="rId3"/>
          <a:stretch/>
        </p:blipFill>
        <p:spPr>
          <a:xfrm>
            <a:off x="6629400" y="4648320"/>
            <a:ext cx="2324160" cy="1866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/>
          </p:nvPr>
        </p:nvSpPr>
        <p:spPr>
          <a:xfrm>
            <a:off x="0" y="0"/>
            <a:ext cx="3657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ahoma"/>
              </a:rPr>
              <a:t>Querido Laur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ahoma"/>
              </a:rPr>
              <a:t>Hoy  preparé ir a mi casa. Que estaba bien aquí. El muchachos son bueno . Fuí a compras otra vez. Entonces yo fuí a mi sala a demas. Yo no fui visté un museo, quizás la próxima vez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ahoma"/>
              </a:rPr>
              <a:t>Adios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ahoma"/>
              </a:rPr>
              <a:t>Tat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1"/>
          <a:stretch/>
        </p:blipFill>
        <p:spPr>
          <a:xfrm>
            <a:off x="4952880" y="533520"/>
            <a:ext cx="3810240" cy="3047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6:40:33Z</dcterms:created>
  <dc:creator>tinsleybusbytat</dc:creator>
  <dc:description/>
  <dc:language>en-US</dc:language>
  <cp:lastModifiedBy>tinsleybusbytat</cp:lastModifiedBy>
  <dcterms:modified xsi:type="dcterms:W3CDTF">2011-11-30T17:04:36Z</dcterms:modified>
  <cp:revision>12</cp:revision>
  <dc:subject/>
  <dc:title>Slide 1</dc:title>
</cp:coreProperties>
</file>